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766-E56E-4DDE-B8C1-4D8CB7A5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82E-4A8A-47D2-A4A3-2150FB86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551-1541-45D0-AF3F-A6914807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DDC-2A45-4F58-9219-8FAAF2AC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D4A-A3F9-40B4-B773-A345BCC8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8C0-0069-428F-BCFD-2F8D0DE2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D8C-5026-423B-A36B-88151815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C4E-D45E-449D-BA71-40EADA37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B98-7F5C-4C7D-A1C1-C86B368E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7E8-5398-4767-8F0A-C91A7BBD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2D6-A886-41D5-929B-099C2D3B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433-34DF-4C60-9B65-3C9E38B9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8560-2C20-4AEC-ADEF-2C8B6CDC0E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6" descr=""/>
          <p:cNvPicPr/>
          <p:nvPr/>
        </p:nvPicPr>
        <p:blipFill>
          <a:blip r:embed="rId2"/>
          <a:stretch/>
        </p:blipFill>
        <p:spPr>
          <a:xfrm>
            <a:off x="6659640" y="1440"/>
            <a:ext cx="2468520" cy="822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9520" y="163440"/>
            <a:ext cx="187020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075280" cy="255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5445000"/>
            <a:ext cx="3705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750" t="0" r="15581" b="90229"/>
          <a:stretch/>
        </p:blipFill>
        <p:spPr>
          <a:xfrm>
            <a:off x="3708360" y="2924280"/>
            <a:ext cx="5292720" cy="93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Entrevista a A. Ca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1040" y="1484280"/>
            <a:ext cx="756720" cy="246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349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197000"/>
            <a:ext cx="143964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6237" t="0" r="11923" b="20666"/>
          <a:stretch/>
        </p:blipFill>
        <p:spPr>
          <a:xfrm>
            <a:off x="2771640" y="2637000"/>
            <a:ext cx="2695680" cy="3887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rcRect l="7773" t="6857" r="12067" b="15043"/>
          <a:stretch/>
        </p:blipFill>
        <p:spPr>
          <a:xfrm>
            <a:off x="468360" y="1844640"/>
            <a:ext cx="2822400" cy="388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3024360" cy="2305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73760" y="580536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6320" y="4221000"/>
            <a:ext cx="73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 u="sng">
                <a:solidFill>
                  <a:srgbClr val="000000"/>
                </a:solidFill>
                <a:uFillTx/>
                <a:latin typeface="Arial"/>
              </a:rPr>
              <a:t>Web: inese.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605320" cy="367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74840" y="1052640"/>
            <a:ext cx="150948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sponsabl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1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544840" cy="3586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11169" r="0" b="0"/>
          <a:stretch/>
        </p:blipFill>
        <p:spPr>
          <a:xfrm>
            <a:off x="5940360" y="1989000"/>
            <a:ext cx="2521080" cy="177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00680" y="560700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9440" y="3789360"/>
            <a:ext cx="36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We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05264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768480" cy="504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7020" t="0" r="15913" b="0"/>
          <a:stretch/>
        </p:blipFill>
        <p:spPr>
          <a:xfrm>
            <a:off x="4067280" y="2565360"/>
            <a:ext cx="4968720" cy="93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33046" t="13252" r="30429" b="8111"/>
          <a:stretch/>
        </p:blipFill>
        <p:spPr>
          <a:xfrm>
            <a:off x="4716360" y="1484280"/>
            <a:ext cx="344196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rcRect l="33334" t="14476" r="30477" b="10095"/>
          <a:stretch/>
        </p:blipFill>
        <p:spPr>
          <a:xfrm>
            <a:off x="324000" y="1413000"/>
            <a:ext cx="355428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24000" y="4365720"/>
            <a:ext cx="792000" cy="180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0792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-10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907920"/>
            <a:ext cx="134172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-11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254560" cy="405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2276640"/>
            <a:ext cx="1008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8:04:46Z</dcterms:created>
  <dc:creator>u2498325</dc:creator>
  <dc:description/>
  <dc:language>en-US</dc:language>
  <cp:lastModifiedBy>U2499960</cp:lastModifiedBy>
  <dcterms:modified xsi:type="dcterms:W3CDTF">2011-12-05T09:21:55Z</dcterms:modified>
  <cp:revision>16</cp:revision>
  <dc:subject/>
  <dc:title>Diapositiva 1</dc:title>
</cp:coreProperties>
</file>